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92A139-85DC-45FC-AE9B-59372862964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6D3103-D5B5-4023-8BF8-56A5A0CB1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A26F4C-D18C-4170-A534-8990A90C3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2060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7452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6668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2060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7452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C6BC19-D4C6-44C5-B90E-5B85D2F0E74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514240" y="22824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57C4B0-A310-461D-BE39-AF340B20C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060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37452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06668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72060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37452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6861E9-82C2-4CCC-8AD2-1F7F6D9B8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6C1126-2EAC-4157-B254-AD971C567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3E7B2A-9FA7-4DC8-AC42-F3B926B7B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514240" y="22824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344FEB-AA7C-4D3A-95EE-1AC656A72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47DC40-15AD-45D3-9C3E-21F4538A9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E12504-5300-44D5-A792-D30AE4985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A47488-7E45-4AFB-9D27-11583E243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" name="">
            <a:hlinkClick r:id="" action="ppaction://hlinkshowjump?jump=firstslide"/>
          </p:cNvPr>
          <p:cNvSpPr/>
          <p:nvPr/>
        </p:nvSpPr>
        <p:spPr>
          <a:xfrm>
            <a:off x="7527960" y="6499080"/>
            <a:ext cx="11271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ecff"/>
                </a:solidFill>
                <a:latin typeface="Arial"/>
              </a:rPr>
              <a:t>Jump to first page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previousslide"/>
          </p:cNvPr>
          <p:cNvSpPr/>
          <p:nvPr/>
        </p:nvSpPr>
        <p:spPr>
          <a:xfrm>
            <a:off x="8637480" y="6551640"/>
            <a:ext cx="131760" cy="15408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nextslide"/>
          </p:cNvPr>
          <p:cNvSpPr/>
          <p:nvPr/>
        </p:nvSpPr>
        <p:spPr>
          <a:xfrm>
            <a:off x="8866080" y="6553080"/>
            <a:ext cx="131760" cy="15408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93360" y="6400440"/>
            <a:ext cx="106524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93720" y="6553080"/>
            <a:ext cx="84456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footer&gt;</a:t>
            </a: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 </a:t>
            </a:r>
            <a:fld id="{CF1D0B36-F9F2-46B5-9E34-F32EB3EAC783}" type="slidenum">
              <a:rPr b="0" lang="en-US" sz="9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066680" y="1523880"/>
            <a:ext cx="8077320" cy="0"/>
          </a:xfrm>
          <a:prstGeom prst="line">
            <a:avLst/>
          </a:prstGeom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496880" y="1676520"/>
            <a:ext cx="764712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590920" y="456840"/>
            <a:ext cx="6248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3"/>
          </p:nvPr>
        </p:nvSpPr>
        <p:spPr>
          <a:xfrm>
            <a:off x="281448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4"/>
          </p:nvPr>
        </p:nvSpPr>
        <p:spPr>
          <a:xfrm>
            <a:off x="141120" y="6400440"/>
            <a:ext cx="26654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267080" y="4952880"/>
            <a:ext cx="4519800" cy="112896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isc.org/products/BIND/" TargetMode="Externa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isc.org/products/BIND/bind9.html" TargetMode="External"/><Relationship Id="rId2" Type="http://schemas.openxmlformats.org/officeDocument/2006/relationships/hyperlink" Target="http://www.isc.org/products/BIND/bind9-beta.html" TargetMode="External"/><Relationship Id="rId3" Type="http://schemas.openxmlformats.org/officeDocument/2006/relationships/hyperlink" Target="ftp://ftp.isc.org/" TargetMode="External"/><Relationship Id="rId4" Type="http://schemas.openxmlformats.org/officeDocument/2006/relationships/hyperlink" Target="http://www.isc.org/services/public/lists/bind-lists.html" TargetMode="External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590920" y="999720"/>
            <a:ext cx="6248160" cy="600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Installing BIND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oe Able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abley@isc.or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uilding BIND9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/configu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k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udo make instal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3BE6DD-6006-4C31-825D-69F92B9D5EF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happe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Executabl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/usr/local/sbin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dnssec-keygen, dnssec-makekeyset, dnssec-signkey, dnssec-signzon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lwresd, named-checkconf, named-checkzon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rndc, rndc-confge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named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/usr/local/bin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di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host, isc-config.sh, nslookup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nsupdat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nd libraries "happen"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D5BA9F-E18F-481A-B7CC-165BB845F4D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estin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ke sure right version is now install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amed -v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941A26-6107-4CDE-AA20-CEC8A14618D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514240" y="771120"/>
            <a:ext cx="6095880" cy="600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verview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trieving BI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ilding, Installing BI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iling Lis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A44FE9-3654-4CEA-A6A9-39D1D8E2749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IND 9 Mailing List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oining mail lis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ttp://www.isc.org/services/public/lists/bind-lists.htm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ind9-users, bind-annou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bind-users is for bind8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rchi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ttp://www.isc.org/ml-archives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DFA63B-EF71-499D-B0D9-D56AEB44B0D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514240" y="771120"/>
            <a:ext cx="6095880" cy="600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verview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trieving BI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ilding, Installing BI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iling Lis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CECBAF-E9E8-432A-A587-40A3B1B88A4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etrieving BIND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ternet Software Consortiu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HTT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T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packages we'll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4BA334-6839-417D-B875-673FABCAC5A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nternet Software Consortium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ource for BI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Software: DHCP, NNT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der Development: OpenReg (EPP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99"/>
                </a:solidFill>
                <a:uFillTx/>
                <a:latin typeface="Arial"/>
                <a:hlinkClick r:id="rId1"/>
              </a:rPr>
              <a:t>http://www.isc.or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4189CD-76BF-4AC3-8633-0A2CEA74522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IND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Version 8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In use, available, obsolete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Don't start to use it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Migrate to Version 9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(Okay, BIND 8 is faster than BIND 9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Version 9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Current version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Releas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Release Candidate (Betas)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napshots (Alphas)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Never Use Snapshots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3F726B-F174-408F-9AF3-F4C87130582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Getting BIND 9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HTT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99"/>
                </a:solidFill>
                <a:uFillTx/>
                <a:latin typeface="Arial"/>
                <a:hlinkClick r:id="rId1"/>
              </a:rPr>
              <a:t>http://www.isc.org/products/BIND/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99"/>
                </a:solidFill>
                <a:uFillTx/>
                <a:latin typeface="Arial"/>
                <a:hlinkClick r:id="rId2"/>
              </a:rPr>
              <a:t>http://www.isc.org/products/BIND/bind9.html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BIND 9.2.1 toda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99"/>
                </a:solidFill>
                <a:uFillTx/>
                <a:latin typeface="Arial"/>
                <a:hlinkClick r:id="rId3"/>
              </a:rPr>
              <a:t>http://www.isc.org/products/BIND/bind9-beta.html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BIND 9.2.2.rc1 toda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FT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99"/>
                </a:solidFill>
                <a:uFillTx/>
                <a:latin typeface="Arial"/>
                <a:hlinkClick r:id="rId4"/>
              </a:rPr>
              <a:t>ftp.isc.org</a:t>
            </a: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 - anonymou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Change Directory to /isc/bind9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cd 9.2.1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cd 9.2.2rc1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tp://ftp.isc.org/isc/bind9/9.2.2rc1/bind-9.2.2rc1.tar.gz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1A0203-14EA-41E8-81CF-E79EA71E9C9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ther Packag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SS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ill be needed for DNSSEC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Let's wait on that..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34E007-D48E-44B7-8625-E581830C8A9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514240" y="771120"/>
            <a:ext cx="6095880" cy="600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verview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trieving BI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ilding, Installing BI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iling Lis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8FB70F-4119-41FC-98C0-973E88C52BD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Unpacking BIND9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ar -xzf bind-9.2.2rc1.tar.gz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Uncompresses and creates direct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ind-9.2.2rc1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hat's in there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 lot of stu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/configure (scri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/doc/arm/Bv9ARM.htm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dministrator's Reference Manua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ood source!!!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361AE0-4785-4D1B-B474-3A7FF30A077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19T01:37:02Z</dcterms:created>
  <dc:creator>ARIN Net</dc:creator>
  <dc:description/>
  <dc:language>en-US</dc:language>
  <cp:lastModifiedBy>Marmaduke Wildebeeste</cp:lastModifiedBy>
  <cp:lastPrinted>2009-04-22T19:24:48Z</cp:lastPrinted>
  <dcterms:modified xsi:type="dcterms:W3CDTF">2003-06-01T20:46:17Z</dcterms:modified>
  <cp:revision>11</cp:revision>
  <dc:subject/>
  <dc:title>Getting and Installing BIND</dc:title>
</cp:coreProperties>
</file>