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410B-1D1F-4274-AB1C-A14DCE75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5E5-824D-4D06-9F01-1F40B04A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C75D9-0674-41D5-807F-C0C466AB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BD33C-5FED-4E3C-8ED3-D11B4CF1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EFC5E-7CED-4A75-A5DB-F0739942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7CBB3-836B-41C3-80EB-CC941E12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FF362-DDE5-44CE-9889-30BD96D6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BC585-037C-43AD-96A5-96F7E402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B8BB9-C92F-49CC-BCAD-65B4EFD3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A7834-95C6-4A68-A727-47FEBB3A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3BB02-DF1A-44B2-9CF6-561E1CB9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3F8D8F-0FFB-4D4B-80D7-7EFB2EC6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5850-3BDF-47CB-9BDC-1E8377D3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05EFDD-0D12-4641-9399-32513AEA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14B13A-A14F-49B2-BC55-18EEE958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0F75DF-5663-448D-A850-E68D335D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4E4E00-768A-455E-A8CB-21CE1BAC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DE3AC9-5C33-4A9E-AFFC-8FB841F6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78F2C8-9310-483E-B0BB-24BF6276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57DFA9-89B8-4DC8-AEA3-89CF930A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1DA8BC-1011-4F45-B6FF-613467D2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738585-9976-4E13-AEB3-9DC5CDF0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8A59D8-BD64-497E-A2F7-95BFE39B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7E11-901E-4F72-8B5C-99531832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AFE6CB-1584-4F44-AE19-E2283823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02A6D-6E11-40F3-A662-CBBF5FD6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A7E33-42B1-4503-8948-C1436303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F9292-60FB-48CD-BA0F-E8E753EF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44E6A-A4D7-4D53-8BBD-3BBA9C90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2730E-26B4-4AB5-8C42-C38B9116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4B709-270F-470A-90F9-0BBDFDE1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8D0F1-A6A0-4D86-88F9-17519267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28C8A-4CA1-4B81-BCEB-2D8C4FB2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BEED2-1270-4741-9E19-66B86166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2282-59D9-497E-AE78-D1D79152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DD22D-71B4-4E48-BD7B-BC66D671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972D4-F66F-48CD-BAA6-53273718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DBA49-C317-441C-AF0E-8844A12D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AC545-EB1A-48B3-875D-10D81261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D0A4A-1CCB-4DF8-867D-7CF77D19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1EA0C-745D-47EA-A7E0-1374680F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B0EF6-8761-4FE9-8042-BD4C858B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B22A8-F9B0-4DD3-B5D7-06E5043F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AD723-8D86-4075-91E3-04638A7E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556D2-C562-406D-AE39-85488049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6915-D266-41F0-A088-09AE2A38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80F93-E755-4E25-B2E2-B1F73EB8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25E81-EB10-447F-B329-1D3C4F68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2C128-23BB-4B12-B7DB-D7D2707F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0F0A3-8BAF-463F-AFC3-0E359667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5F181-EFCB-4563-95F5-61373DA9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6044-0154-43B7-8B94-1572FDD3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F2E4-A42D-40FD-BF7B-98CBEDE5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6FD5-7D18-4BAF-A9C0-30BC71A3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622F-F52B-42F7-A8C9-6CBE837A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CA88-84A4-4C1E-AC85-EAAEAC24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E2C-C1CB-4F83-9944-5E2FD734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20BC-EAD3-4B85-9610-1096D9F7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574B-D353-40A8-85C6-FC317577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B67B-C399-4678-A6A5-24DC2E30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5D2A-093C-4729-B418-693DCF0A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AFD2-136F-47AB-8A2A-CD0BE6DE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43F92-053B-4AB4-83D2-858D7F06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13EB1-1E09-4A36-B49E-D08809B3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C4FA4-AFB0-4AB7-9A16-E355227F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9847B-6603-4E46-9AB3-CAE7232B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43081-B932-4073-9BD5-8C34E4BA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D25-1491-4CB0-B8BE-DC3C8DB6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0407E-355A-436B-BF99-932BB989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F646C-D6A9-4E16-9353-CE4A0F40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B19C5-8371-4723-872D-EAE6D6B7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B9D85-6F19-4DCE-97DB-282BEB8E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CE816-6A16-4E03-9576-14394647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FAF0A-C598-4834-BCD5-69541821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D1DE1-B97C-4BB9-AA2E-CCAAC4FA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DAAB6-B838-4AB4-B619-09319DE7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6259E-10F4-4ABA-83F1-BA95324C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9EDDC-5411-4BA6-9659-ADFCC8E9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350-7A95-4D1B-83CD-573BF0B5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04D76-2343-4A9B-972D-6A749C0C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F410A-CA9D-49F8-BA82-CA4B4F31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82C30-E97C-476C-85A6-CA4B7B31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335D7-E626-40B1-A3A4-523F4F04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25D34-6FB1-4C37-A842-9F635B0C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D8B8F-B653-4FEB-AECE-74FA0B7C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58D79-EC50-4D56-80B6-DF837AD3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DDBFE-D58A-41BB-AFC7-D6475522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C07BB-E165-4002-9A2A-ED901C03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63599-56E3-4770-B374-0C56F635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2C0-B243-4002-A92C-E8EB915A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E5FE50-4512-4CF3-8C18-412975B8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42F14C-3480-4558-BD62-30A89140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105B4C-F49D-49AC-A4B5-5068BEFA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36641B-C7EB-4069-A631-02C48DC4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FFF62A-AAF6-452D-84CA-D3E0036D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50D0A6-4018-47F0-87DE-1189CD36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6F71A7-E38F-4148-B4B1-DD09791D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DD37B-A653-4EA4-B6D5-E296E2D4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0F2BD1-0924-4FBC-B335-393BD1A8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0923A0-CC56-4FBE-B52F-F980BA46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4D0C-5500-44D0-9DFD-FB84B28A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DC511E-61DE-4964-9112-78E727D3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D864A-203C-4291-8687-FD9E51C7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AC776-FA67-46AB-A2E4-E52EEEFF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95132-22F0-4209-8183-FF8AE521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93AFB-350B-4620-B0A5-7EBF87FE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686A7-5538-452B-AD19-464CBF63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F56CC-4223-4C13-865A-EBA02CB2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F1A4A-B005-40B0-8715-2EC4403D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30237-CF76-42E8-8EEB-B32CDD61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C0C0E-D9FF-4897-B990-0D99BC87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D19-8CF9-4364-9653-2E8EDBB7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4AD1D-7335-409E-B4BF-87C98B10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F8EEE-18F2-46DA-BEB7-ED50CA9D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C2E27-CDC2-486B-B43F-CD64E47A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C1A53-0CC5-4DB0-8F80-22B5CDCA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DAFFD-B926-463D-876E-9C41832E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B3DBB-3D3C-4D78-B600-027443CE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DF985-F0EE-47EE-A7CC-09102AC2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A323B-C15D-4897-89C3-724A1F60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72DFD-ABAB-45A4-BB11-3ECFA96C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0DE5C-6DAB-4B8D-8580-A4FFB657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6E85-4BFF-42AC-B0F3-68FDA673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6AB31-9D6A-4D40-BBED-9D5EFDD5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01F40-7C78-49A8-9C3B-716C4084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8157F-18EE-4A87-98A8-605B6A60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0E0B7-4A7E-4750-8F72-1E251EAC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8DB18-D054-4B1B-B665-C3DA15E4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7A03E-91BE-46A5-8230-58CA9942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D8D89-CB57-47AF-ACAA-FF00EC8D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ABDE4-FE7D-4D39-B1F2-1E876EB3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5C674-3416-40CA-8EC3-ED2BA423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88A2F-0888-41FC-83C8-54C38447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1ED-357A-4359-BE34-CA4C0642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5208F-C0C9-44BC-ADFE-33BF0521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E96A5-0FE4-4FAB-BEF1-27A74F1D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84F0B-859B-4398-8616-4ECCCA79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ACBDD-A034-4840-903A-C98194E5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7B093-2BE7-4B40-8E25-662E993A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103F0-F63D-4F53-9A57-AA4D30E8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7D2BE-F9D4-4389-B038-72C96D1E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DFCBD-7FCE-4A48-883A-D596E441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DEF21-73FD-4F9D-86B3-049FB1E4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C1C5F-4D60-4951-B5AF-3A6633BD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7791-516C-41A8-8DB5-CDAD2107C5A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F6E3-6885-4B7E-A89E-8551366D4F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AD17-BD92-4B07-88C6-4FCF9A059B6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40FC-036D-4077-8E21-C95DEB740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FE54-6F97-408A-95D3-9E550A6B019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7B89-2FBF-4104-A88B-9DC9D7A7412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3D97-F71B-421A-B3A0-25CBB876D3B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7AAA-9535-41AB-8331-E9D4F29098F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CF3D-2E45-4EA1-BC9E-B6F8B5DC41B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EAE0-14CE-4132-9EFD-B6A0D8D05B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50B9-9E75-4401-95D1-1C1179DB823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D3E1-0557-4ADD-AE32-C2608044F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DF81-F016-41EB-A907-C7F8DCF400C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8C10-E593-4DFC-ACA0-90FE23138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CCF9-973B-4333-9427-E30A80ECFD4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4FBE-D7A6-433B-9540-D73CB8F31E0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3F5C-248E-404B-BD88-014BA76E33D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D140-645D-46FD-82AF-D9480C5798B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F10E-FB03-40F3-9048-5E463F94604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F265-64B2-41BC-B50F-D1C036E8D3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3DBB-B450-495B-9DA4-19D6C9C3D00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3684-73B7-4A54-BEC0-2A4F785A288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9877-5AFB-4EE8-9827-CB8595D128B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13A1-F744-4AB0-BFB0-EE815B12D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34D-B41C-4B6B-8D69-1813E1B67B3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B733B-1968-40DE-9684-7262A8F0508C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93DBC-970D-4A3A-9FB2-CB0C2BE927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FAC67446-4E89-42BE-9264-152D3F91DF3B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DD29D-45E6-4747-9AC5-654F6500CF85}" type="slidenum">
              <a:t>3</a:t>
            </a:fld>
          </a:p>
        </p:txBody>
      </p:sp>
    </p:spTree>
  </p:cSld>
  <p:transition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B1D4C-936F-4350-B3DC-1B8F515ADC4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96966BC-7D2E-4698-905C-FF4F2320162F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E7090-9640-4876-BE49-BC5DD36A3E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A53C37B1-1BF8-4406-A359-58EFAAF12099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57FF6-D7D9-494D-9C3B-4474BD45A4A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D7E5C5AC-1814-4ED2-8E01-1ADB5E57954F}" type="datetime1">
              <a:rPr lang="en-US"/>
              <a:t>07/29/26</a:t>
            </a:fld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