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ED4F-2102-480E-8C89-5B3CF695A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28E5-DDDA-4C3B-A78D-94BE2BB6B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4AB3-B15F-4256-95B0-4A0F1982F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C682-4750-4AEF-A1E7-6C0BE8372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7C26-1379-4028-BF36-7A184CD4D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2A23-167A-4CB7-A730-CCAED134A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53DA-B2EC-46CF-83FA-7B107391E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148D-41CC-4B49-85DD-692AE4932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1390-EA86-41DF-8FA0-62426D04B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A4BF-9D4D-4781-B85E-2E52D1EBA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3EBB-E979-41A6-8F05-A753CF4EC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1DF8-54D1-4221-BC0A-35711551C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9D21D-B51C-4CED-960E-57ED15397E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gDings bullet chars tes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tangular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uare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border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te 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der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outline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filled diam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 of Dav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5 point s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Bilbo Baggins</cp:lastModifiedBy>
  <dcterms:modified xsi:type="dcterms:W3CDTF">2003-02-24T18:57:51Z</dcterms:modified>
  <cp:revision>5</cp:revision>
  <dc:subject/>
  <dc:title>WingDings bullet chars test:</dc:title>
</cp:coreProperties>
</file>