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C6D1-DFF2-48F1-8FEC-08BFDB5F8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09FD-0CB6-40CB-A6DF-76827BBF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7E826-B48B-4251-8177-CE0D5300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E205E-EFF1-4790-B683-862BAFE7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21CEF-8DD3-4FCD-9A86-246D5005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D6A47-EBDF-4C54-A617-4C0D3D9F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33107-2F44-4A58-940A-E0DD80FC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88A5D-1632-4D1C-8D8F-7DEF7B30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C5DE4-BB51-4536-A7CC-60EED829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A5E78-FBE4-470C-9AA5-200C838FA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7FB8A-C594-44AD-BE02-8DF772D8C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A07E2E-6BEF-405B-ABDD-451418707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01A4-88B1-459D-90F1-095FDC86D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83331C-EEA3-41D9-80FF-D4E5DF59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A04939-E092-4DB7-A61F-1FE30C05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DD03E0-7CD7-4ED6-867C-DC5849EF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8F2923-DAF6-44B6-864F-A8B11EDC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2FC56B-A11C-4841-B911-31F0A534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C38C08-8D2E-49E3-B8CF-899966D0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00F528-F409-421A-A422-81B2FE0B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0B9FA5-1211-45A8-A49B-D968F044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0B0385-B69A-4B5B-B5D0-3F74F6F7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45F8AF-CEFE-4AA7-B73E-CCFF5A22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2FEB-8745-44BC-984C-3C4864838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6E36A6-E423-4AF0-9D81-CA532B923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A0AAC-96FB-4CFE-9FC3-0DADA445B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E039A-F3F6-4A26-A9EA-474A726E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BE0EE-E075-4799-9304-F493F4E6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C41B6-85D1-4820-A628-F2B4E49E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4D95A-E183-4233-A59E-862436FE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61817-0734-4FE7-A89B-B02F3C9D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FC682-F49A-48D3-9C1B-82071BFA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78430-7007-4151-A84A-B2DB2AC7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AFB67-1034-412E-9703-A2A3BE4F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B255-E70C-42A5-BDF1-D6590761A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C4F99-7C08-4170-919C-C3DA324B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30CA8-E2D8-4A4F-938D-9AC4CD092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15298-5146-49D0-A969-17571B6D4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1FC43-0115-4149-B2B7-651B28E7C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D4E128-166E-42BB-8AE8-3DBDC727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340116-BD6B-4F0C-BDB2-74DCC666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25AC78-9611-4C08-9D8E-98004E69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351C57-ABC7-4F73-B315-580F6F36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ABAE05-D5BD-456B-93CE-42390EB0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415AC-E57A-41B0-A028-02090175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2423-2862-4743-B5B7-0A2F4A79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FD148B-7487-44EE-AB72-4F662679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71DBB7-E037-4B20-B8B5-1707C895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37C960-168B-4C49-BE57-EF46B27D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9024BD-FA40-439C-B023-B2277769C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4FF31C-FA36-42BE-8B4F-BCDC3B08D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AD9F-7D69-45F3-85A3-668AA229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CDFF-E7DC-437B-AC04-0AC7EA50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9656-1C22-4F3A-944F-B10DDC5B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5725-4A4D-45F0-873F-1BE97F96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F869-0E85-4F36-B299-A3B1A501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BB72-D0F4-47E5-A1D1-1262F9C5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B09E-A97C-4688-A4A8-AF487DEA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63A0-1176-4292-9A93-554F8B1E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BAEA-67B8-4801-A6E6-6A768C45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7641-F3E9-40D0-BAA9-1A55CB04F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6E54-212F-4C98-8173-E176A5573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41758-1D5A-4E47-B49E-F5B0FBBCE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91D1D-B14D-4261-9334-B1185D21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CECF3-4FEF-47B0-9CED-AD5E4C67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831DE-2BF9-4457-A88C-362511D7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C63AD-9363-4F79-A7F5-5F3C823E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3DAF-52E1-4F32-AB49-B699466B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06205-D586-41E6-9C11-FDB19967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0A402-08A6-4DC9-A022-E82C39A7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65B23-76E1-4AFE-B249-7187E4AC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3CC66-7F07-4E2B-A100-542315D4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7897A-5A6E-461E-877A-3D414AB1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5F60F-E9D0-41D3-971C-B9F29258B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132D8-A4CD-4D56-B98C-7C39BD0E2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EFE0E-17CB-44E9-AEDB-AACEF0613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E3DD3-ED5F-45A4-8E6B-A930D405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DB490-265C-4F4F-9580-B865215D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5F0F-DB1D-4982-87E3-7E468660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9FEA2-7EBE-4028-B7D3-9B793339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F3CE7-ED3F-44CB-98E4-393D1674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EB359-A9D9-435A-A909-2B859C97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9B640-01F9-407F-8B3D-65716B48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9E3FC-EF89-42BA-AFC0-3CACC7D8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80328-4487-456D-B8B2-1AD194C0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3ABA7-C57F-4168-AC06-A04947D5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64CC3-0EBF-4EF6-923E-E6554E944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65042-DBE5-4EB6-BC0F-3F8B56458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227379-A5BF-461A-A799-BD3CB03B9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1CDA-6919-405E-92CF-343BB63B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3110B0-4787-452E-8BF9-D27CAF6F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AFC4A1-06FD-4B90-9AAC-F9FCFE04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4716CB-7EF2-4D66-902C-6B5A589F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75646F-4321-46A0-A970-C57F8D7D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2E3669-924B-439D-9FE6-AE5727F9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BD5D02-6623-4B57-B594-FD2521F7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B7D9AA-C4D4-4B4E-BAA4-46579BDD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B9504B-B387-463F-BB04-8F7D6B28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E8E641-D342-4A38-9FD7-753CBBD7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A002A2-9966-411B-B12C-6923364B3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83B9-9FDA-4B04-B427-ED4EF016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5388A4-C55A-40AD-9DF8-91CB8258D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AEF36-73DD-4776-84BC-BEBADC5C5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0C20D-BFBA-4FD5-A2CD-D2E26DB9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6C935-6865-4E7E-92AF-F1F5290D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39723-2661-4FCD-858B-15BECD7D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F90C2-0A36-4815-B947-EB35092D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FC8D1-63C1-4900-AA53-03513896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C02B7-FF68-495A-9E62-916C0EF5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A1887-7D1A-4D68-A48E-7002492A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64916-B37D-4CB2-B6B9-C4056234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EF0C-B992-4E91-A9B1-CF8C7143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B3CA0-9ECE-4E22-8342-5B91EA70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0741D-C771-43EA-8899-6070C1763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0E7BC-5965-456F-82A8-895A43405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C586F-B8A6-43C2-A825-034AC863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8C9A3-1C52-4F19-9129-EC7B4007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7E035-C0A3-4F03-B056-E705D44E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3148A-724F-4FA4-A1CA-CF842AD6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A2086-6003-4129-AA07-484937BE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3D6C9-216F-4FF1-A7E2-2CECB3EA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715A1-3605-40A7-9A39-621F3719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0720-EE05-405F-9A44-728CFA41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2DA4A-0E73-4776-B2A8-3DA9E279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17E17-D848-4FA3-A3C4-6A4C851D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FA8AC-413D-4275-8B23-429B68ED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2BDB7-8A86-4986-A5ED-6329A6EE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58FAD-3EA8-41D3-AE32-BE3681BEB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AF8F8-77B9-4A36-B841-AD59C36F5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8BF2C-75AB-403D-92DC-C6CADF61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7CD30-0012-4E36-A0F8-34FC80C2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7A96F-C44D-4B16-BACA-F0D0112A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2ECE8-CA91-4978-9B05-AE2EBD51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F843-F2CC-4F8A-9C77-2DF5C1B8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E5C4B-AA93-461B-8E60-D7C5D719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A3060-EBE2-41BF-935D-60BB0474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7E46B-ABBA-446E-9768-0C4E3215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D929D-E7EF-4E33-8F14-B837EA67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4710A-F479-488F-9482-4B5CE50A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3D420-1C6F-4121-890D-D8D15AD2E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4230A-CF7F-4985-94C3-7ED459006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BE5BE-F1EB-4D96-B89F-95B4D178A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CD513-1A67-4357-87A4-0F6AB55C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5A04B0-5806-484A-B80B-971C20B1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25F2-0DB2-44EA-992F-19FDE8FC8687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C330-88FF-4F31-AFEF-A4F6762AB90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2C12-A461-47B2-BE71-FDD6D7BD454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864A-46B0-4C04-B6EF-E7687B487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AAAB-82D4-481D-907A-E0CF94649A68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5756-02C5-42A9-8846-E87D1DC2410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590B-7247-43B3-9781-20E9CCC34316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13ED-0566-4A24-BCF8-CF87F371761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5D06-9874-48A5-B6B5-699EEDA18E8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783D-A4A7-4138-AAE3-AC4C2FD0FE7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1270-A952-4CB4-BE09-FA1F1E28D4C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DEE7-0D4F-4F61-B39E-52D57350C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FDD2-DBAD-42FD-836C-F05B5A02E1B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5E7F-14A8-46A6-BF11-6A997E09E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BF80-27D4-4BBB-8F0E-4BE6DEBEE3C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0660-7D8A-4E20-92C3-AD4CCAE0222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72F5-E185-4F4C-A1D7-0272AA099CD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0556-7925-4CFA-81A9-5E85D064F6E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B954-A095-4E0C-8EC6-4989A04488D5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BA8A-0ED1-4712-A3EA-CCCF3B0CC0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1276-5DF0-4D20-8090-159339B209E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3357-FE35-4F02-9F88-6D12F586402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7684-78C1-43D7-A19E-0A371AC988C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16BD-39A8-41B5-AA29-D89308830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EFD0-835C-4E11-BEA4-D64A4D8DB5A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23C45F-5D1A-474A-A917-69C7E4D2469A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8221E-CAC6-41C8-9CFC-3F7617B66D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18FE2A03-85D7-415A-BC04-B86E686AAF92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21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35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9C133-1A20-4FC4-AEE8-B4508C07D543}" type="slidenum">
              <a:t>3</a:t>
            </a:fld>
          </a:p>
        </p:txBody>
      </p:sp>
    </p:spTree>
  </p:cSld>
  <p:transition>
    <p:comb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7C4ADE-22B3-413A-B8F2-81104F7014F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62609529-1B86-4A13-A2A1-3A503ACC8957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9CC2E-6858-47A9-9AB4-930FC9D7B4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634FA26A-1DE9-4E60-9B04-164FAA897737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7000"/>
                            </p:stCondLst>
                            <p:childTnLst>
                              <p:par>
                                <p:cTn id="3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00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C621C1-7F84-4036-9511-9D5488E8FFC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2FF742A6-97C3-43F9-A9C0-5418085CDA53}" type="datetime1">
              <a:rPr lang="en-US"/>
              <a:t>07/28/26</a:t>
            </a:fld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