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ECBB-C64B-4ECC-B8D2-990F29B1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D3E1-32F5-40AD-9EE5-E2D85D85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CC733-9355-4DF8-9939-7C770217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8D391-5D41-40A9-905A-0B1F8694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236B4-2F09-4FCD-BECB-08C664D2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DE16D-DB27-47E5-9DF8-765B3E69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DBC6C-9B6D-45BB-A95F-67911BB5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F9CD8-4160-47B4-8DDC-5410BB2D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E16E7-732A-45F1-8D52-3B397B25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1A5AF-83E7-40D0-BDFB-06192475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AB35B-F316-42CD-9E3D-12470F9D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4D2AE4-8A98-4502-B128-9C12E04D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3D9C-126B-4058-86FC-139AD740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B0BA26-098E-4395-B48B-B6CD0D66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E98372-A943-47FA-AF07-885A4418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486D03-724C-4AEF-AF02-59DA5DAD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474240-B293-4C21-AB81-9CBE4BDF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83BBD5-8CFB-4E13-9C57-0E650AF7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B4146D-2F2C-4161-B2AE-7C164FF8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A1AA62-ADF4-4F8B-8FC0-E7564E15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2E2ED3-E878-4B8F-915C-40E973B6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92BF8D-E9CD-419B-990C-1D3E6378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ACF783-E977-4C95-BB36-554D88CF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FA7E-5111-4A42-8A42-AF5CA363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D35C5C-D565-40C8-93FB-9EF3C461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BDB93-EC5E-42D0-87A4-3F4F7E63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923C6-776A-45A0-B5DA-9F601177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E4C86-6BE1-49A8-A063-5C37C75B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1B50D-3BEF-4146-AF6A-5F2C5B12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D557E-1FC0-4285-8318-CF1C091F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F9CFD-9126-468D-8F36-BF7F4A01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AF5C9-F257-4411-AB61-38AA0F67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67A48-CD43-4834-AF48-07E1867C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5DCDF-448D-494A-8EBE-7D1554DA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08C0-6C20-4638-AF41-246ACCFC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063E0-BEA6-4959-861C-82AF7E91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3BA1D-5E91-451F-89EB-62F30574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566A6-394D-407A-BDF5-4A5305F8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B793F-E82E-4841-824C-1E85A8BC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511FF-34D2-4A09-9C2B-438D8308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27518-B60D-4210-805E-B4B85CF9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FBF2C-1322-4542-8939-D6BCAE6C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82F09-202F-49EC-B72D-826C2487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8EC8F-9114-403A-8B0E-D822E2F8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980D7-262F-434A-ACB8-266F1FF5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6A6C-1183-4C01-968B-6B184E78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ECB0B-8F61-40E8-93A9-23F09EBD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17872-E81D-4B39-B80C-B6B37196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1ACA9-3EBA-4E10-AD08-F5F2F89D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D55CE-E83F-4217-B6B7-F8DA74FF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98393-2329-4017-8852-F9EDC3B0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B265-590A-4976-8E86-D251C907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58AC-F02A-4C47-8E81-FE1B67C6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3208-C6F1-40CD-BB90-BE0262EE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D87B-4050-42E1-A216-FF695E25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97F7-FC44-4E21-AFD9-56FFF4BE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2EF9-A469-4B0F-BFF2-DFCAD619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98BA-FDAF-491E-A285-21ECAF57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DFF0-F222-4B39-9FDB-420E1333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3DC9-E1F6-4671-B77F-6B05747E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7482-608B-4C55-86F0-9D073A20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7632-CBBD-4317-9A93-A724C24D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A665A-6566-4235-BFF7-E4E36721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96A67-0C91-4D1C-8B39-ABADBB67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D6DB1-A325-4AD8-BE5A-8358484C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E71B8-7537-4CA7-A3AC-94434C06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9DDE0-D8C2-498A-8ED0-76DCFA62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A586-41FF-4BF8-9502-BDB997CC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03B8A-407B-4332-9F44-5B560B0C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F8BBD-0566-498F-8A12-7007EBA2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CDDD3-854E-4044-8782-6357E080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5D9AC-530C-4475-B972-40D44536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03CBB-21D2-430D-840C-943534F9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EFC30-406C-4FEA-8BD7-1FDC2345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69419-AABF-4E08-889A-67E3E455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6762B-EE69-408E-97A2-EE2BC7F3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46431-2725-4D92-842D-8611C149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E6016-8121-4C97-8D90-A4F3D66C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C055-1D35-4BFD-A73E-A1DB2934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850C0-8A6A-49BD-92B7-9DF9C111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907B2-D1C7-4046-9470-48483AE2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CBD06-D13F-4CD7-8E1D-B926EFF8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E2699-E6CA-4490-9698-1AEE64FD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80F27-6461-489E-ADF5-370C4C61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4CE57-97C0-4A21-90B1-DC3BC938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B4BE6-F478-42BA-AED0-2EA42471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787EA-E795-40BD-8ABE-31614A54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39E00-6EA3-4C4E-9BEA-A37CFB55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2C5D0F-D693-4EC3-B42F-C5050C2B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D476-A7FD-4ACF-B523-4DDD1744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ED7276-F169-4012-9B2C-523B0FDA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19E390-A1B9-46FE-85E6-A8BC70F1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8E05E6-DCB1-48E8-80B5-298CDB7E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1DA859-D0B9-43DB-86BE-9A5962FD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936E30-3BCA-4C97-90DE-8713C8C3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75EC6F-7804-4D0F-AE59-1DC551C1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D128E8-C258-4E71-86DE-CECA0B12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C96FA8-074A-4060-8E79-0BC97C16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E1F2AA-9C53-4D8E-8690-C65A39E7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F70A0D-6967-4A69-AA46-1BE590FD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8A5C-4E5D-41F3-BC13-3792F3FD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E02C71-1890-47EF-9833-1B6C9BEF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A1BED-FEEB-4853-8FEF-9796824A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02B0D-4835-4E9D-AE99-F1B4F27F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2774C-F1CC-4464-986A-C1CA8944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9D59F-BDA6-4942-A1B3-9F678E6B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10D96-7BB3-43CB-BD7A-1AB63D47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E537F-2921-4108-9039-6721A2B4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FEBE1-39AE-41C5-AAE3-F6797918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3A5AF-B00E-44E2-9BE0-AFA29F93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7E916-5E90-4E71-BD74-B12F8F17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AA1C-A865-4EDF-863E-8CD45052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7A75C-EE53-4041-BE04-6883AF5D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59B9B-3609-41B2-8437-1BBAAAA1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2B740-7173-4D68-B23B-7B29F70A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013D1-42CE-4F35-AD01-6F57D111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039BA-8E32-4A4E-9133-8F1B2989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5B0DB-227C-4FD8-910D-5C90AA41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1C42C-027A-43CB-8A9A-629933D9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9B72C-C1E7-4876-8BBF-98513C69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95FC5-B34F-4157-9D7B-40C5334D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C4ECA-322A-4FEA-8E68-D914C6F5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875D-0039-4481-9AAA-E78BC51F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D3017-A52D-4ED3-B59F-34822E34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260F5-219A-4422-88CB-571072BA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CB734-638E-4B1D-9148-576776F7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FEDB8-37B5-4E6E-B987-DC932C3C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99368-CB2F-4C04-8A02-3CAA0B0F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082F6-DA38-4909-ABD3-AD95C6E0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3134E-740C-45DE-9FD2-B2C0442B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6B794-B870-493B-B64B-2A67A571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9C82F-1255-4B54-9560-63989530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62393-0BD0-44BF-A4CD-53796C61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6E4D-08CA-47AB-82D4-F408F6F3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B3D27-0547-4047-B10F-27CD95EB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3FCA0-85AE-4209-8465-EBD034AB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7DB96-EE96-4EE8-B27D-01B7E555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6B50D-4202-4D2F-A98F-A1AAA94A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9DDBB-C630-40D9-AB02-6112CA4B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4D43F-6D9E-4466-A5F5-72C114E0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3FE60-79D1-44B5-8601-49ADD4941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B4D32-0699-4EA9-906E-327895F9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FDB7E-0E5F-4BEC-A248-8CF152E6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D10A1-31EE-4026-A8A9-60E92A3D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2D74-4431-4311-A76A-826254DC9DA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01C1-2EBF-4EFC-BB5D-7393EA4219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DE3E-FF3B-405F-881C-A7D6748A22C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2988-B9B2-4730-88F1-955CB14C8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DF51-346E-427A-BCEE-1DE32816EB9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8CE5-622C-4BEF-871A-8CF0CDD1C8A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A5FF-388D-4173-BF6C-6810BA9A5CD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2189-AD76-4B5D-81A7-E30DD137ACB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F8FE-9EE7-4DFC-8B18-8CEE16E69C8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50FC-EDD0-4CA0-AFB9-815BF329CD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92EA-7050-4FEF-8575-9B3D90B622E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599E-BB06-4E23-8C05-710191B8B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2616-4388-4D9A-A51A-0ADF0B86814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E1E9-D99D-4B32-8E36-1B0274A5F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771F-2979-41AA-B32E-20EE45BE0C7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9347-52DD-4A64-A2A9-4E5B25106E3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1C3A-D9FA-45E3-9D26-30F53B46969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0925-4167-4D05-86ED-95C6C935A59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2D3C-F866-4EB2-AF56-FF2E75A1A7C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137F-AA6B-4672-8DBB-E1139D8CCF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1743-BA69-43F4-B6AD-9BA353FE44A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04F9-5717-4DDB-A76C-0B042BEEEAC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2050-D988-469B-83AC-F53BAF7B387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EDA5-3582-43B5-9A29-13E808BC6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5FB3-389F-4052-8CAF-3226FCD67F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A6A84-EC89-4D68-98AA-45911DA34A7E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51EFE-6058-4810-AE07-5B81C750FB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C31635E2-CD42-4BCD-BCDB-228DA4C581AD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BB9DE-682B-4FED-8012-E0D95BD44BAD}" type="slidenum">
              <a:t>3</a:t>
            </a:fld>
          </a:p>
        </p:txBody>
      </p:sp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7E7B6E-F6E5-4A27-B578-6F641BDCC05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5F63A20A-DAAB-4358-9E1C-D1F1A3604B8A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8A6AF-A142-44D7-ABE0-9146ACE6FB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04AF8812-C694-4A79-A63E-EB5348AF946F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5BC26-6994-4640-AAD3-D6DEE0B6687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1C38830C-2AE1-4261-BC30-259172C5C4E4}" type="datetime1">
              <a:rPr lang="en-US"/>
              <a:t>07/30/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